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A9A-1E07-419E-A95A-FC57BA43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8D8-D771-4E60-B249-CC91CBCF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648-6646-4E5C-AEDF-9E33F5D6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F2A-F616-4A6A-9FF7-E98F7363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373-09C2-4AA2-A3AE-709AB4F2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906-B9A2-408E-A5CE-CEB5539E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D7B-5B6F-402D-AB10-B8FE9693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EE9-C6AD-4CFC-BCE4-18804207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429-21B8-4649-85A3-B49C28A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414-887B-45C8-89E5-019373C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EBB-948F-4463-AE33-B585BD1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DD5-0537-4F95-8AC9-02DB8C8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9B99-1306-40FC-9F48-8D971884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arwig Factory"/>
              </a:rPr>
              <a:t>Principles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Earwig Factory"/>
              </a:rPr>
              <a:t>of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Earwig Factory"/>
              </a:rPr>
              <a:t>Ecolo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638680"/>
            <a:ext cx="38102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efferso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iolog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s. Sanford and Mr. O’Con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ptember 16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523880"/>
            <a:ext cx="777240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teraction in which one organism captures and feeds on another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dator: 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y: 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9080" y="806400"/>
            <a:ext cx="32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Symb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 between two or more organism of different species that live in direct contact with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Comic Sans MS"/>
              </a:rPr>
              <a:t>Mutualis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– both species benefit from the relation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: long-nosed bat and sagua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ac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Comic Sans MS"/>
              </a:rPr>
              <a:t>Commensalis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– relationship in which one organism benefits and the other is neither helped nor harm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:  demodicids (microsc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yelash mites) and hum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Comic Sans MS"/>
              </a:rPr>
              <a:t>Parasitis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– one organism lives on or inside of the other organism and harms 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:  braconid wasp and caterpill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663560" cy="1249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94080" cy="1676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1676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 Do Consumers E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nsumer that primarily eats one specific organism or feeds on a very small number of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ensitive to changes in availability of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ner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umers that have a varying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380988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quence that links species by their feeding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follows the connection between one producer and a single chain of consumers within an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pendent on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25920" y="0"/>
            <a:ext cx="5518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6477120" cy="1295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rophic Leve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vels of nourishment in a food 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ducer – herbivore – carnivo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nergy flows up the food 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rimar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consumers are herbivores because they are the first consumer above the producer trophic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econdar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consumers are carnivores that eat herbiv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ertiar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consumers are carnivores that eat secondary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 level would humans fit int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eat a sa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eat a st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rti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eat exotic foods like alligator, shark, squid, or sn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x network of feeding relationships and the flow of energy within and sometimes beyond an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each link, some energy is stored within and organism and some is dissipated into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nt on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3208320"/>
            <a:ext cx="4724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ow might the introduction of a new predator affect the flow of energy through a food web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0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ht cause other populations in the food web to decrease in size, thus decreasing the amount of energ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Earwig Factory"/>
              </a:rPr>
              <a:t>What is Ecology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colo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the relationships among organisms and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actions among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actions between living things are their surroundings (non-living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iotic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living things, such as plants, animals, fungi, and bac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nonliving things such as moisture, temperature, wind, sunlight, and soil; the balance of these factors determines which living things can survive in a particular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arwig Factory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24956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676520" cy="146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181480" y="2057400"/>
            <a:ext cx="1228680" cy="163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221680" y="4572000"/>
            <a:ext cx="9223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733920" y="5651640"/>
            <a:ext cx="176184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30562" t="0" r="33333" b="0"/>
          <a:stretch/>
        </p:blipFill>
        <p:spPr>
          <a:xfrm>
            <a:off x="152280" y="4419720"/>
            <a:ext cx="646200" cy="1790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733920"/>
            <a:ext cx="701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organis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n individual living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group of the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ame spec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live in on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ligators that live in a sw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commun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group of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different spec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live together in on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oups of alligators, turtles, birds, fish, and plants that live together in the Florida Evergl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s to Know continued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co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ludes all of the organisms as well as the climate, soil, water, rocks, and other nonliving things in a give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Florida Everglades as a whole (living and nonl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major regional or global community of organisms, usually characterized by the climate conditions and plant communities that thrive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etlands/mar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iosp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ains the combined portions of the planet in which all of life exists, including land, water, and air or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xtends from 8km above the Earth’s surface to as far as 11 km below the surface of the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s to Know continued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organism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habit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rea where it lives including biotic and abiotic factors (all aspects of the environ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nic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full range of physical, chemical, and biological factors that a species needs to survive, stay healthy, and reprodu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of food species 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t competes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it fits in the 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r temperature and availab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of day species is active and when it reprod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arwig Factory"/>
              </a:rPr>
              <a:t>An Organisms Surround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arwig Factory"/>
              </a:rPr>
              <a:t>Types of Organis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sms that get their energy from nonliving resources (make their own f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ut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en plants, cyanobacteria, and some 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osystems depend on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y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sms that get their energy by eating other living or once-living resources (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Heter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wks, kangaroos, millipedes, and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25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arwig Factory"/>
              </a:rPr>
              <a:t>The Vores and The Pos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Herb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only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rab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Carn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only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haw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mn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both plants and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kangar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Detrit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dead organic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millip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Decompo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ritivores that break down organic matter into simpler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629400" y="2362320"/>
            <a:ext cx="814320" cy="971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1333800" cy="90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0" y="4546440"/>
            <a:ext cx="1447920" cy="965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5562720"/>
            <a:ext cx="97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arwig Factory"/>
              </a:rPr>
              <a:t>How do organisms interac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wo organisms fight for the same limited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etition for space in a lawn:  grass, dandelions, and many other plants all compete for nutrients an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5105520"/>
            <a:ext cx="372132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23:34Z</dcterms:created>
  <dc:creator>Amy Lynn Sanford</dc:creator>
  <dc:description/>
  <dc:language>en-US</dc:language>
  <cp:lastModifiedBy>joconnor</cp:lastModifiedBy>
  <dcterms:modified xsi:type="dcterms:W3CDTF">2009-09-13T13:32:13Z</dcterms:modified>
  <cp:revision>29</cp:revision>
  <dc:subject/>
  <dc:title>Principles of Ecology</dc:title>
</cp:coreProperties>
</file>